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E6D-64EA-452C-B9DF-859EBAC6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0B77-F52A-413C-9306-8B9E9C49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366-54B1-488D-8EAA-9FCA14F8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EC4-1A1E-49BA-9E9A-17F6F43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BB5-0FF8-4F74-839B-6573E57F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AF5-73BE-4127-8FBD-501E2107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F29-D61B-4F0D-9C24-651ADB3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11C-320A-4421-9025-717CB96C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B06-9B86-4DA8-9F17-C311D014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036-FBB7-4D0B-8141-804CB1A9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C4C-B895-44D5-B52F-C8E130BE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0CD-6F61-4775-992D-5885B3A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A39-09A0-4B67-B0D1-BEA9D09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157-B69E-44FE-AC9F-ACFABB7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44F1-203E-47F4-9F82-C4C0CFB7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viana Peral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Viviana Per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a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Buenos días! Mi nombre es Viviana. Yo vivo en Nueva York. Tengo catorce años. Tengo un hermano me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sh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666880" y="3886200"/>
            <a:ext cx="51818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 gracias                                                                                                                 Kamal M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66880" y="3200400"/>
            <a:ext cx="5181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Yo estoy bien ¿Y usted?                                                                                                              Rashmi Purplel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66880" y="251460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 como estas?                                                                                                              Kamal Ma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4572000"/>
            <a:ext cx="51818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ando nos podemos ver?                                                                                                Tasin Isl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 pude ahora pero puede ser muy pronto 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Rashmi Purplel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6880" y="6019920"/>
            <a:ext cx="5181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 bien. Hasta luego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Tasin Isl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69320" y="6095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Happy_smiley_face.png"/>
          <p:cNvPicPr/>
          <p:nvPr/>
        </p:nvPicPr>
        <p:blipFill>
          <a:blip r:embed="rId1"/>
          <a:stretch/>
        </p:blipFill>
        <p:spPr>
          <a:xfrm>
            <a:off x="1905120" y="2590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appy_smiley_face.png"/>
          <p:cNvPicPr/>
          <p:nvPr/>
        </p:nvPicPr>
        <p:blipFill>
          <a:blip r:embed="rId2"/>
          <a:stretch/>
        </p:blipFill>
        <p:spPr>
          <a:xfrm>
            <a:off x="1905120" y="3886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appy_smiley_face.png"/>
          <p:cNvPicPr/>
          <p:nvPr/>
        </p:nvPicPr>
        <p:blipFill>
          <a:blip r:embed="rId3"/>
          <a:stretch/>
        </p:blipFill>
        <p:spPr>
          <a:xfrm>
            <a:off x="15228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appy_smiley_face.png"/>
          <p:cNvPicPr/>
          <p:nvPr/>
        </p:nvPicPr>
        <p:blipFill>
          <a:blip r:embed="rId4"/>
          <a:stretch/>
        </p:blipFill>
        <p:spPr>
          <a:xfrm>
            <a:off x="762120" y="4495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appy_smiley_face.png"/>
          <p:cNvPicPr/>
          <p:nvPr/>
        </p:nvPicPr>
        <p:blipFill>
          <a:blip r:embed="rId5"/>
          <a:stretch/>
        </p:blipFill>
        <p:spPr>
          <a:xfrm>
            <a:off x="137160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appy_smiley_face.png"/>
          <p:cNvPicPr/>
          <p:nvPr/>
        </p:nvPicPr>
        <p:blipFill>
          <a:blip r:embed="rId6"/>
          <a:stretch/>
        </p:blipFill>
        <p:spPr>
          <a:xfrm>
            <a:off x="15228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appy_smiley_face.png"/>
          <p:cNvPicPr/>
          <p:nvPr/>
        </p:nvPicPr>
        <p:blipFill>
          <a:blip r:embed="rId7"/>
          <a:stretch/>
        </p:blipFill>
        <p:spPr>
          <a:xfrm>
            <a:off x="762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appy_smiley_face.png"/>
          <p:cNvPicPr/>
          <p:nvPr/>
        </p:nvPicPr>
        <p:blipFill>
          <a:blip r:embed="rId8"/>
          <a:stretch/>
        </p:blipFill>
        <p:spPr>
          <a:xfrm>
            <a:off x="152280" y="609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9:30Z</dcterms:created>
  <dc:creator>FriscoISD</dc:creator>
  <dc:description/>
  <dc:language>en-US</dc:language>
  <cp:lastModifiedBy>User</cp:lastModifiedBy>
  <dcterms:modified xsi:type="dcterms:W3CDTF">2013-01-02T14:58:05Z</dcterms:modified>
  <cp:revision>104</cp:revision>
  <dc:subject/>
  <dc:title>Profile</dc:title>
</cp:coreProperties>
</file>